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17.jpeg" ContentType="image/jpeg"/>
  <Override PartName="/ppt/media/image2.jpeg" ContentType="image/jpeg"/>
  <Override PartName="/ppt/media/image3.wmf" ContentType="image/x-wmf"/>
  <Override PartName="/ppt/media/image13.jpeg" ContentType="image/jpeg"/>
  <Override PartName="/ppt/media/image4.jpeg" ContentType="image/jpeg"/>
  <Override PartName="/ppt/media/image6.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15.wmf" ContentType="image/x-wmf"/>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961D-5B2B-454C-8E33-7E7911DF6B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DE31-1988-487E-8022-A4840FEE8B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9DF6-289F-4DB4-9081-C406BB1045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Financial Services Division</a:t>
            </a:r>
            <a:r>
              <a:rPr b="0" lang="en-US" sz="1200" spc="-1" strike="noStrike">
                <a:solidFill>
                  <a:srgbClr val="000000"/>
                </a:solidFill>
                <a:latin typeface="Arial"/>
              </a:rPr>
              <a:t> is the operational area of the Ban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supplying currency and coin to financial institutions. The Fed orders new currency from the Bureau of Engraving &amp; Printing, and coin from the U.S. Mint, and is responsible for destroying unfit curr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provider of check clearing services, the Fed processes about 1/3 of all of the checks written in the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mated Clearinghouse (or ACH)  is an electronic form of payments processing, which you may be familiar with if you work and get your pay deposited directly into your acc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electronic payments processing is FedWire, which is utilized primarily by financial institutions to transfer very large sums of money electron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acts as the fiscal agent (bank) for the United States Treasu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1F57-1F48-4315-A910-BEAF25B87C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search Division </a:t>
            </a:r>
            <a:r>
              <a:rPr b="0" lang="en-US" sz="1200" spc="-1" strike="noStrike">
                <a:solidFill>
                  <a:srgbClr val="000000"/>
                </a:solidFill>
                <a:latin typeface="Arial"/>
              </a:rPr>
              <a:t>is comprised of economists at the Reserve Banks and the Board of Governors. The primary responsibility of the research economists is to prepare the Reserve Bank presidents for his or her participation in FOMC meet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research staff gather, analyze and disseminate information about the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every aspect of the economy, from the regional level to the international level, and studies range from analyzing regional banking markets to designing and testing econometric forecasting models to predict the outcome of various economic scen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sts are looking for key pieces of information that will contribute to better monetary policymak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4D0F-5C98-4484-9F1C-FB061DBAC1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manages the nation’s money supply to keep inflation low and the economy growing at a sustainable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s that the Fed takes today influence the economy and the inflation rate for some time to come. Consequently, policymakers must be forward-looking and must take pre-emptive action to head off inflation before it gathers momentu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0A86-E169-4616-B13D-A7B9D28A0E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304560" y="4190760"/>
            <a:ext cx="61722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 is the primary group responsible for formulating and implementing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Fed governors and the twelve Bank Presidents participate in the economic discussions at each meeting, with the Reserve Bank Presidents bringing to the table regional economic news gleaned from their local boards of directors and staff economi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resident and each of the governors are given an opportunity to present their opin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of the 19 members vote at the meetings—all seven governors and five of the Reserve Bank Presidents, with the president of the New York Fed always a voting member, because Open Market Operations are carried out at the trading desk of the New York Fed.  The other four voting positions rotate yearly among the remaining eleven Reserve Bank presid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hanges are decided by consensus and are announced immediately following each me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1136-5D34-408E-840A-FCCA9EBCC8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tary policy is designed to effectively promote the goals of maximum employment, stable prices, and sustainable economic growt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is consistently striving for a balance between oftentimes conflicting goals of monetary policy</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economy is growing at too rapid a pace, the Fed may dampen that growth by influencing interest rates to rise, which may have the effect of putting some people out of work—a direct challenge to the goal of maximum employ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42B2-C317-45FE-811B-630A7CBBF6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the Fed utilizes to influence the economy (or affect the amount of funds in the banking system)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unt Rat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interest charged to banks that need to borrow from the Fed to cover temporary deposit drains (short-term “discount window”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rve Require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deposits that banks must hold in reserve, either in their vaults or on deposit at a Reserve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Open Market Operation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and most flexible tool is that of Open Market Operations, which involves the buying and selling of U.S. government securities. This tool is directed by the FOMC and carried out at the domestic trading desk at the Federal Reserve Bank of New Y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48F0-576F-4461-963D-1370C22CB4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loans made directly to commercial banks from the Federal Reserve System</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set at one percentage point above the Federal Funds Rate – incentive not to borrow from the Lender of Last Resort</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Funds Rate</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west of short-term market interest rates which banks charge each other on overnight loans. The Fed achieves this rate through Open Market Opera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6546-06BC-45F5-B85A-E5972DBCFD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304560" y="4403520"/>
            <a:ext cx="601956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erve Bank Boards of Directors have 9 members, and each Branch’s Board consists of 7 member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are chosen because of their contributions as a member of their industry and because they provide a diverse economic and cultural picture of the region.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sectors of business are represented such as agriculture, commerce, labor, and banking.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also make a recommendation on the Discount (the rate that the Fed charges banks that borrow money to cover individual bank reserve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utes of the meeting and their votes are sent to the Bank’s president and is combined with key economic information collected by the District economists for the Federal Open Market committee meeting.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provide grassroots intelligence for policy decisions made at the national lev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FD26-F0CA-44D2-9036-856440ED8D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Lowering Rat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of borrowing money goes down.</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consumer spending increases economic activity.</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terest rates cut the cost of capital for businesses and improve profit margins and encourages expansion.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B7C4-A67A-401D-975D-0D1F8B102C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generally raises rates as an effective way to quell inflation (a sustained rise in the general price level).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means that your money is worth les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Raising Rat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have difficulty in obtaining loans for expansion; unemployment ris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will pay higher interest rates on credit cards and mortgages, which can cool spen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0BC6-7922-41D7-8F59-5FB52BA710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F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erve is the central bank of the United States and its purpose is to help ensure a stable economy for the 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as a result of the Federal Reserve Act, signed in 191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no congressionally appropriated funds. Its operations are financed primarily from the interest earned on the U.S. government securities it acquires in the course of its monetary policy a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major source of income is derived from the fees received for certain services provided to depository institu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yment of certain expenses, all the net earnings of the Federal Reserve Banks are transferred to the U.S. Treasury. In 2004, for example, the Fed paid approximately $18.1 billion to the U.S. Treasu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DD3A-873D-4CA8-B802-BD32C1C634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the nation’s monetary policy, Supervising and regulating banking institutions, and operating a nationwide payment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will va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employment, price stability, sustainable economic grow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ates induce economic activity; higher rates calm inflation, slows down spe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is a sustained increase in the general price level; inflation is a concern because it means your money is worth less over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 the rate of interest charged to banks who borrow money from the Federal Reserve; Fed Funds Rate – the rate of interest banks charge each other to borrow mone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F87B-77C4-46EB-BAB4-FEF4F43EE2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ibilities of the Federal Reserve System as a whole fall into the following three general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the nation’s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ing and regulating banking institu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 nationwide pay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A8FA-C7D7-46FE-81BB-92420FE42A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Governors in Washington, D.C. oversees the activities of the twelve independently operated District Reserve Banks across the countr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12 Federal Reserve Banks is separately incorporated with a Board of Directors. The District Federal Reserve Banks, along with their 25 branches, are located in major cities across the country, giving the System a strong grass-roots found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 is the chief policymaking body of the Federal Reserv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86C2-97E4-4753-96B5-285358A6B7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members (governors) of the Federal Reserve Board are appointed by the President and subject to approval by the Sena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provides for public accountability in the System, but because these governors serve staggered 14-year terms, the Board is insulated somewhat from short-term political pressure. Not one president can load the Board with candidates who will further a political agen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Board includ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the activities of the regional Reserve Bank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ing domestic and international economic issu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rcising broad responsibility in the nation’s payments system, and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ering laws regarding consumer credit protec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06FB-9C4C-4F51-B00C-6E8A851A5B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members (governors) of the Federal Reserve Board are appointed by the President and subject to approval by the Sena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provides for public accountability in the System, but because these governors serve staggered 14-year terms, the Board is insulated somewhat from short-term political pressure. Not one president can load the Board with candidates who will further a political agen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Board includ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the activities of the regional Reserve Bank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ing domestic and international economic issu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rcising broad responsibility in the nation’s payments system, and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ering laws regarding consumer credit protec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C812-1341-4E40-9D30-8CD9080D97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Banks are the decentralized components that carry out the Fed’s policies and activities at the regional lev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ank is identified with a corresponding letter and number to identify Distri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ivisions within the Fed that carry out its mandated responsibilities: Supervision &amp; Regulation, Financial Services and Researc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BD6E-DEF5-4CB6-8D75-91A0357E06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pervision &amp; Regulation Division</a:t>
            </a:r>
            <a:r>
              <a:rPr b="0" lang="en-US" sz="1200" spc="-1" strike="noStrike">
                <a:solidFill>
                  <a:srgbClr val="000000"/>
                </a:solidFill>
                <a:latin typeface="Arial"/>
              </a:rPr>
              <a:t> exists to promote the safety and soundness of the banking system, foster stability in financial markets, and ensure compliance with applicable laws and regulation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four federal regulatory agenc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e Comptroller of the Currency (OCC)</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deral Deposit Insurance Corporation (FDIC), </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rift Supervision (OT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versight of bank holding companies and state-chartered banks that are members of the Federal Reserve System; examines the health of banks; analyzes proposed mergers and acquisitions of banks; and monitors banks’ management, capital levels, and quality of asse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s a major role in international banking activit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eing U.S. banking organizations that conduct operations abroad;</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ing the establishment of foreign bank branches in the U.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supervisory policy and practices regarding foreign lending of member bank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implementing consumer protection laws, which cover almost all financial transactions involving consumers, including ATMs, credit cards, checking and savings accounts, and loa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Rectangle 4"/>
          <p:cNvSpPr/>
          <p:nvPr/>
        </p:nvSpPr>
        <p:spPr>
          <a:xfrm>
            <a:off x="533520" y="5105520"/>
            <a:ext cx="5715000" cy="450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9181-E042-4C06-B27A-902B29D5E8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pervision &amp; Regulation Division</a:t>
            </a:r>
            <a:r>
              <a:rPr b="0" lang="en-US" sz="1200" spc="-1" strike="noStrike">
                <a:solidFill>
                  <a:srgbClr val="000000"/>
                </a:solidFill>
                <a:latin typeface="Arial"/>
              </a:rPr>
              <a:t> exists to promote the safety and soundness of the banking system, foster stability in financial markets, and ensure compliance with applicable laws and regulation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four federal regulatory agenc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e Comptroller of the Currency (OCC)</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deral Deposit Insurance Corporation (FDIC), </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rift Supervision (OT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versight of bank holding companies and state-chartered banks that are members of the Federal Reserve System; examines the health of banks; analyzes proposed mergers and acquisitions of banks; and monitors banks’ management, capital levels, and quality of asse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s a major role in international banking activit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eing U.S. banking organizations that conduct operations abroad;</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ing the establishment of foreign bank branches in the U.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supervisory policy and practices regarding foreign lending of member bank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implementing consumer protection laws, which cover almost all financial transactions involving consumers, including ATMs, credit cards, checking and savings accounts, and loa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Rectangle 4"/>
          <p:cNvSpPr/>
          <p:nvPr/>
        </p:nvSpPr>
        <p:spPr>
          <a:xfrm>
            <a:off x="533520" y="5105520"/>
            <a:ext cx="5715000" cy="450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7E8FC-5B78-470B-B146-7D09AEAEF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C41C8-94D2-4187-B1A2-32F8A40DD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34F2D-19AE-4DE6-890D-40A1875C9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36FC8-1356-42CC-A97F-D2251FB22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730BC-EA02-47FD-8D3C-0894C1D48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F8F62-EC2E-4233-B535-95185209F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816D0-6209-4844-B9FE-2B38AF160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BFE61-6CBF-4C26-88FD-36F7B7E9D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CFF87-8AEE-4DCA-A226-EEADD619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ACF6C-357D-4A51-A372-1A680244E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BF649-1462-434D-BC55-51593CDCA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C9B29-A1E8-4F4A-9D4A-8A0A60FE2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7F62E-73CE-4F85-828C-6B4C08EF4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A7FA2-CA8B-48D3-887C-10AC51AF2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AC081-F719-4427-A5B4-C081D18F7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2AD18-46AF-47AE-8D3B-299DECC17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4A33E-965E-42C9-BEA4-CF43BB47B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C8607-E675-4E94-AC5D-1385A415F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E7C06-F80F-4190-AF33-773D6D2D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25DEC-8E4C-4D30-8E5A-8449592AB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69839-5EDB-4BEA-8FEE-94EA0D505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6060A-F3B6-439E-BD74-0C21AB7C4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84F4-4DFC-49FB-B14F-33AED5A73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57AE-15CF-4A2F-8C69-1D28B1CEF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6B8B-798B-44D7-BC92-7BA0AA602E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9EEA-41AF-4498-9CE4-E110769F16DF}"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7652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The Federal Reserve In Action</a:t>
            </a:r>
            <a:endParaRPr b="0" lang="en-US" sz="4800" spc="-1" strike="noStrike">
              <a:solidFill>
                <a:srgbClr val="420000"/>
              </a:solidFill>
              <a:latin typeface="Times New Roman"/>
            </a:endParaRPr>
          </a:p>
        </p:txBody>
      </p:sp>
      <p:pic>
        <p:nvPicPr>
          <p:cNvPr id="104" name="Picture 6" descr="diploma_guide"/>
          <p:cNvPicPr/>
          <p:nvPr/>
        </p:nvPicPr>
        <p:blipFill>
          <a:blip r:embed="rId1"/>
          <a:stretch/>
        </p:blipFill>
        <p:spPr>
          <a:xfrm>
            <a:off x="3276720" y="3657600"/>
            <a:ext cx="214128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inancial Services</a:t>
            </a:r>
            <a:endParaRPr b="0" lang="en-US" sz="4400" spc="-1" strike="noStrike">
              <a:solidFill>
                <a:srgbClr val="420000"/>
              </a:solidFill>
              <a:latin typeface="Times New Roman"/>
            </a:endParaRPr>
          </a:p>
        </p:txBody>
      </p:sp>
      <p:sp>
        <p:nvSpPr>
          <p:cNvPr id="132" name="PlaceHolder 2"/>
          <p:cNvSpPr>
            <a:spLocks noGrp="1"/>
          </p:cNvSpPr>
          <p:nvPr>
            <p:ph/>
          </p:nvPr>
        </p:nvSpPr>
        <p:spPr>
          <a:xfrm>
            <a:off x="456840" y="2133360"/>
            <a:ext cx="3962520" cy="419076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y currency and coin to banking institution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more than one-third of nation’s check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 funds electronically (ACH, Fedwire)</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as bank for the U.S. Treasury</a:t>
            </a:r>
            <a:endParaRPr b="0" lang="en-US" sz="2400" spc="-1" strike="noStrike">
              <a:solidFill>
                <a:srgbClr val="000000"/>
              </a:solidFill>
              <a:latin typeface="Times New Roman"/>
            </a:endParaRPr>
          </a:p>
        </p:txBody>
      </p:sp>
      <p:pic>
        <p:nvPicPr>
          <p:cNvPr id="133" name="Picture 4" descr="dollar"/>
          <p:cNvPicPr/>
          <p:nvPr/>
        </p:nvPicPr>
        <p:blipFill>
          <a:blip r:embed="rId1"/>
          <a:stretch/>
        </p:blipFill>
        <p:spPr>
          <a:xfrm>
            <a:off x="4572000" y="2521080"/>
            <a:ext cx="4572000" cy="27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search</a:t>
            </a:r>
            <a:endParaRPr b="0" lang="en-US" sz="4400" spc="-1" strike="noStrike">
              <a:solidFill>
                <a:srgbClr val="420000"/>
              </a:solidFill>
              <a:latin typeface="Times New Roman"/>
            </a:endParaRPr>
          </a:p>
        </p:txBody>
      </p:sp>
      <p:pic>
        <p:nvPicPr>
          <p:cNvPr id="135" name="Picture 4" descr="plan"/>
          <p:cNvPicPr/>
          <p:nvPr/>
        </p:nvPicPr>
        <p:blipFill>
          <a:blip r:embed="rId1"/>
          <a:stretch/>
        </p:blipFill>
        <p:spPr>
          <a:xfrm>
            <a:off x="380880" y="2104920"/>
            <a:ext cx="3962520" cy="3864240"/>
          </a:xfrm>
          <a:prstGeom prst="rect">
            <a:avLst/>
          </a:prstGeom>
          <a:ln w="0">
            <a:noFill/>
          </a:ln>
        </p:spPr>
      </p:pic>
      <p:sp>
        <p:nvSpPr>
          <p:cNvPr id="136" name="PlaceHolder 2"/>
          <p:cNvSpPr>
            <a:spLocks noGrp="1"/>
          </p:cNvSpPr>
          <p:nvPr>
            <p:ph/>
          </p:nvPr>
        </p:nvSpPr>
        <p:spPr>
          <a:xfrm>
            <a:off x="4648320" y="1828440"/>
            <a:ext cx="4038480" cy="472428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her, analyze and disseminate economic data</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all aspects of the economy (regional to international level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regional and national markets and economic data</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nd test econometric models used to produce hard data that factor into policymaking deci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netary Policy</a:t>
            </a:r>
            <a:endParaRPr b="0" lang="en-US" sz="4400" spc="-1" strike="noStrike">
              <a:solidFill>
                <a:srgbClr val="420000"/>
              </a:solidFill>
              <a:latin typeface="Times New Roman"/>
            </a:endParaRPr>
          </a:p>
        </p:txBody>
      </p:sp>
      <p:sp>
        <p:nvSpPr>
          <p:cNvPr id="138"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changes affect the nation’s supply of money and credit.</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s have real short- and long-term effects on the economy.</a:t>
            </a:r>
            <a:endParaRPr b="0" lang="en-US" sz="2800" spc="-1" strike="noStrike">
              <a:solidFill>
                <a:srgbClr val="000000"/>
              </a:solidFill>
              <a:latin typeface="Times New Roman"/>
            </a:endParaRPr>
          </a:p>
        </p:txBody>
      </p:sp>
      <p:pic>
        <p:nvPicPr>
          <p:cNvPr id="139" name="Picture 18" descr="board_small"/>
          <p:cNvPicPr/>
          <p:nvPr/>
        </p:nvPicPr>
        <p:blipFill>
          <a:blip r:embed="rId1"/>
          <a:stretch/>
        </p:blipFill>
        <p:spPr>
          <a:xfrm>
            <a:off x="4572000" y="1981080"/>
            <a:ext cx="4267080" cy="42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Open Market Committee</a:t>
            </a:r>
            <a:endParaRPr b="0" lang="en-US" sz="4400" spc="-1" strike="noStrike">
              <a:solidFill>
                <a:srgbClr val="420000"/>
              </a:solidFill>
              <a:latin typeface="Times New Roman"/>
            </a:endParaRPr>
          </a:p>
        </p:txBody>
      </p:sp>
      <p:pic>
        <p:nvPicPr>
          <p:cNvPr id="141" name="Picture 19" descr="fomc_small"/>
          <p:cNvPicPr/>
          <p:nvPr/>
        </p:nvPicPr>
        <p:blipFill>
          <a:blip r:embed="rId1"/>
          <a:stretch/>
        </p:blipFill>
        <p:spPr>
          <a:xfrm>
            <a:off x="304920" y="2133720"/>
            <a:ext cx="3886200" cy="3836880"/>
          </a:xfrm>
          <a:prstGeom prst="rect">
            <a:avLst/>
          </a:prstGeom>
          <a:ln w="0">
            <a:noFill/>
          </a:ln>
        </p:spPr>
      </p:pic>
      <p:sp>
        <p:nvSpPr>
          <p:cNvPr id="142" name="PlaceHolder 2"/>
          <p:cNvSpPr>
            <a:spLocks noGrp="1"/>
          </p:cNvSpPr>
          <p:nvPr>
            <p:ph/>
          </p:nvPr>
        </p:nvSpPr>
        <p:spPr>
          <a:xfrm>
            <a:off x="4419360" y="1905120"/>
            <a:ext cx="4724280" cy="4038480"/>
          </a:xfrm>
          <a:prstGeom prst="rect">
            <a:avLst/>
          </a:prstGeom>
          <a:noFill/>
          <a:ln w="0">
            <a:noFill/>
          </a:ln>
        </p:spPr>
        <p:txBody>
          <a:bodyPr anchor="t">
            <a:normAutofit fontScale="97000"/>
          </a:bodyPr>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nd directs U.S. monetary policy</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 governor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ve presidents (New York and four others on a rotating basi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ting presidents participate fully</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interest rate decision is made by the 12-member Federal Open Market Committee (FO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Goals of Monetary Policy</a:t>
            </a:r>
            <a:endParaRPr b="0" lang="en-US" sz="4400" spc="-1" strike="noStrike">
              <a:solidFill>
                <a:srgbClr val="420000"/>
              </a:solidFill>
              <a:latin typeface="Times New Roman"/>
            </a:endParaRPr>
          </a:p>
        </p:txBody>
      </p:sp>
      <p:grpSp>
        <p:nvGrpSpPr>
          <p:cNvPr id="144" name="Group 19"/>
          <p:cNvGrpSpPr/>
          <p:nvPr/>
        </p:nvGrpSpPr>
        <p:grpSpPr>
          <a:xfrm>
            <a:off x="1828800" y="1905120"/>
            <a:ext cx="5370480" cy="4663080"/>
            <a:chOff x="1828800" y="1905120"/>
            <a:chExt cx="5370480" cy="4663080"/>
          </a:xfrm>
        </p:grpSpPr>
        <p:grpSp>
          <p:nvGrpSpPr>
            <p:cNvPr id="145" name="Group 13"/>
            <p:cNvGrpSpPr/>
            <p:nvPr/>
          </p:nvGrpSpPr>
          <p:grpSpPr>
            <a:xfrm>
              <a:off x="2590920" y="1905120"/>
              <a:ext cx="3882600" cy="4343040"/>
              <a:chOff x="2590920" y="1905120"/>
              <a:chExt cx="3882600" cy="4343040"/>
            </a:xfrm>
          </p:grpSpPr>
          <p:sp>
            <p:nvSpPr>
              <p:cNvPr id="146" name="AutoShape 12"/>
              <p:cNvSpPr/>
              <p:nvPr/>
            </p:nvSpPr>
            <p:spPr>
              <a:xfrm>
                <a:off x="2592360" y="1909800"/>
                <a:ext cx="3879720" cy="433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Freeform 14"/>
              <p:cNvSpPr/>
              <p:nvPr/>
            </p:nvSpPr>
            <p:spPr>
              <a:xfrm>
                <a:off x="3886560" y="1905120"/>
                <a:ext cx="2496600" cy="3358440"/>
              </a:xfrm>
              <a:custGeom>
                <a:avLst/>
                <a:gdLst>
                  <a:gd name="textAreaLeft" fmla="*/ 0 w 2496600"/>
                  <a:gd name="textAreaRight" fmla="*/ 2496960 w 2496600"/>
                  <a:gd name="textAreaTop" fmla="*/ 0 h 3358440"/>
                  <a:gd name="textAreaBottom" fmla="*/ 3358800 h 3358440"/>
                </a:gdLst>
                <a:ahLst/>
                <a:rect l="textAreaLeft" t="textAreaTop" r="textAreaRight" b="textAreaBottom"/>
                <a:pathLst>
                  <a:path w="1574" h="2118">
                    <a:moveTo>
                      <a:pt x="600" y="278"/>
                    </a:moveTo>
                    <a:lnTo>
                      <a:pt x="621" y="282"/>
                    </a:lnTo>
                    <a:lnTo>
                      <a:pt x="650" y="287"/>
                    </a:lnTo>
                    <a:lnTo>
                      <a:pt x="679" y="295"/>
                    </a:lnTo>
                    <a:lnTo>
                      <a:pt x="699" y="300"/>
                    </a:lnTo>
                    <a:lnTo>
                      <a:pt x="723" y="307"/>
                    </a:lnTo>
                    <a:lnTo>
                      <a:pt x="746" y="314"/>
                    </a:lnTo>
                    <a:lnTo>
                      <a:pt x="770" y="322"/>
                    </a:lnTo>
                    <a:lnTo>
                      <a:pt x="791" y="328"/>
                    </a:lnTo>
                    <a:lnTo>
                      <a:pt x="816" y="339"/>
                    </a:lnTo>
                    <a:lnTo>
                      <a:pt x="845" y="351"/>
                    </a:lnTo>
                    <a:lnTo>
                      <a:pt x="870" y="362"/>
                    </a:lnTo>
                    <a:lnTo>
                      <a:pt x="894" y="373"/>
                    </a:lnTo>
                    <a:lnTo>
                      <a:pt x="922" y="386"/>
                    </a:lnTo>
                    <a:lnTo>
                      <a:pt x="948" y="400"/>
                    </a:lnTo>
                    <a:lnTo>
                      <a:pt x="972" y="413"/>
                    </a:lnTo>
                    <a:lnTo>
                      <a:pt x="995" y="428"/>
                    </a:lnTo>
                    <a:lnTo>
                      <a:pt x="1015" y="441"/>
                    </a:lnTo>
                    <a:lnTo>
                      <a:pt x="1035" y="456"/>
                    </a:lnTo>
                    <a:lnTo>
                      <a:pt x="1058" y="471"/>
                    </a:lnTo>
                    <a:lnTo>
                      <a:pt x="1083" y="490"/>
                    </a:lnTo>
                    <a:lnTo>
                      <a:pt x="1106" y="508"/>
                    </a:lnTo>
                    <a:lnTo>
                      <a:pt x="1127" y="526"/>
                    </a:lnTo>
                    <a:lnTo>
                      <a:pt x="1148" y="541"/>
                    </a:lnTo>
                    <a:lnTo>
                      <a:pt x="1180" y="570"/>
                    </a:lnTo>
                    <a:lnTo>
                      <a:pt x="1214" y="604"/>
                    </a:lnTo>
                    <a:lnTo>
                      <a:pt x="1240" y="629"/>
                    </a:lnTo>
                    <a:lnTo>
                      <a:pt x="1271" y="667"/>
                    </a:lnTo>
                    <a:lnTo>
                      <a:pt x="1293" y="693"/>
                    </a:lnTo>
                    <a:lnTo>
                      <a:pt x="1316" y="724"/>
                    </a:lnTo>
                    <a:lnTo>
                      <a:pt x="1343" y="759"/>
                    </a:lnTo>
                    <a:lnTo>
                      <a:pt x="1364" y="792"/>
                    </a:lnTo>
                    <a:lnTo>
                      <a:pt x="1386" y="829"/>
                    </a:lnTo>
                    <a:lnTo>
                      <a:pt x="1409" y="865"/>
                    </a:lnTo>
                    <a:lnTo>
                      <a:pt x="1428" y="903"/>
                    </a:lnTo>
                    <a:lnTo>
                      <a:pt x="1447" y="937"/>
                    </a:lnTo>
                    <a:lnTo>
                      <a:pt x="1465" y="978"/>
                    </a:lnTo>
                    <a:lnTo>
                      <a:pt x="1482" y="1017"/>
                    </a:lnTo>
                    <a:lnTo>
                      <a:pt x="1496" y="1058"/>
                    </a:lnTo>
                    <a:lnTo>
                      <a:pt x="1510" y="1103"/>
                    </a:lnTo>
                    <a:lnTo>
                      <a:pt x="1528" y="1158"/>
                    </a:lnTo>
                    <a:lnTo>
                      <a:pt x="1540" y="1210"/>
                    </a:lnTo>
                    <a:lnTo>
                      <a:pt x="1552" y="1262"/>
                    </a:lnTo>
                    <a:lnTo>
                      <a:pt x="1558" y="1313"/>
                    </a:lnTo>
                    <a:lnTo>
                      <a:pt x="1567" y="1374"/>
                    </a:lnTo>
                    <a:lnTo>
                      <a:pt x="1573" y="1449"/>
                    </a:lnTo>
                    <a:lnTo>
                      <a:pt x="1574" y="1507"/>
                    </a:lnTo>
                    <a:lnTo>
                      <a:pt x="1573" y="1564"/>
                    </a:lnTo>
                    <a:lnTo>
                      <a:pt x="1568" y="1618"/>
                    </a:lnTo>
                    <a:lnTo>
                      <a:pt x="1562" y="1669"/>
                    </a:lnTo>
                    <a:lnTo>
                      <a:pt x="1556" y="1723"/>
                    </a:lnTo>
                    <a:lnTo>
                      <a:pt x="1545" y="1778"/>
                    </a:lnTo>
                    <a:lnTo>
                      <a:pt x="1531" y="1837"/>
                    </a:lnTo>
                    <a:lnTo>
                      <a:pt x="1513" y="1899"/>
                    </a:lnTo>
                    <a:lnTo>
                      <a:pt x="1495" y="1955"/>
                    </a:lnTo>
                    <a:lnTo>
                      <a:pt x="1474" y="2010"/>
                    </a:lnTo>
                    <a:lnTo>
                      <a:pt x="1445" y="2064"/>
                    </a:lnTo>
                    <a:lnTo>
                      <a:pt x="1415" y="2118"/>
                    </a:lnTo>
                    <a:lnTo>
                      <a:pt x="951" y="1831"/>
                    </a:lnTo>
                    <a:lnTo>
                      <a:pt x="977" y="1777"/>
                    </a:lnTo>
                    <a:lnTo>
                      <a:pt x="993" y="1736"/>
                    </a:lnTo>
                    <a:lnTo>
                      <a:pt x="1005" y="1691"/>
                    </a:lnTo>
                    <a:lnTo>
                      <a:pt x="1016" y="1648"/>
                    </a:lnTo>
                    <a:lnTo>
                      <a:pt x="1023" y="1608"/>
                    </a:lnTo>
                    <a:lnTo>
                      <a:pt x="1026" y="1568"/>
                    </a:lnTo>
                    <a:lnTo>
                      <a:pt x="1029" y="1530"/>
                    </a:lnTo>
                    <a:lnTo>
                      <a:pt x="1029" y="1489"/>
                    </a:lnTo>
                    <a:lnTo>
                      <a:pt x="1027" y="1441"/>
                    </a:lnTo>
                    <a:lnTo>
                      <a:pt x="1021" y="1395"/>
                    </a:lnTo>
                    <a:lnTo>
                      <a:pt x="1013" y="1344"/>
                    </a:lnTo>
                    <a:lnTo>
                      <a:pt x="1002" y="1303"/>
                    </a:lnTo>
                    <a:lnTo>
                      <a:pt x="985" y="1257"/>
                    </a:lnTo>
                    <a:lnTo>
                      <a:pt x="969" y="1217"/>
                    </a:lnTo>
                    <a:lnTo>
                      <a:pt x="950" y="1179"/>
                    </a:lnTo>
                    <a:lnTo>
                      <a:pt x="934" y="1149"/>
                    </a:lnTo>
                    <a:lnTo>
                      <a:pt x="917" y="1125"/>
                    </a:lnTo>
                    <a:lnTo>
                      <a:pt x="900" y="1101"/>
                    </a:lnTo>
                    <a:lnTo>
                      <a:pt x="881" y="1076"/>
                    </a:lnTo>
                    <a:lnTo>
                      <a:pt x="859" y="1051"/>
                    </a:lnTo>
                    <a:lnTo>
                      <a:pt x="841" y="1033"/>
                    </a:lnTo>
                    <a:lnTo>
                      <a:pt x="821" y="1011"/>
                    </a:lnTo>
                    <a:lnTo>
                      <a:pt x="801" y="992"/>
                    </a:lnTo>
                    <a:lnTo>
                      <a:pt x="777" y="973"/>
                    </a:lnTo>
                    <a:lnTo>
                      <a:pt x="748" y="953"/>
                    </a:lnTo>
                    <a:lnTo>
                      <a:pt x="724" y="935"/>
                    </a:lnTo>
                    <a:lnTo>
                      <a:pt x="704" y="924"/>
                    </a:lnTo>
                    <a:lnTo>
                      <a:pt x="674" y="905"/>
                    </a:lnTo>
                    <a:lnTo>
                      <a:pt x="648" y="895"/>
                    </a:lnTo>
                    <a:lnTo>
                      <a:pt x="625" y="886"/>
                    </a:lnTo>
                    <a:lnTo>
                      <a:pt x="601" y="877"/>
                    </a:lnTo>
                    <a:lnTo>
                      <a:pt x="565" y="868"/>
                    </a:lnTo>
                    <a:lnTo>
                      <a:pt x="531" y="861"/>
                    </a:lnTo>
                    <a:lnTo>
                      <a:pt x="497" y="857"/>
                    </a:lnTo>
                    <a:lnTo>
                      <a:pt x="462" y="855"/>
                    </a:lnTo>
                    <a:lnTo>
                      <a:pt x="443" y="854"/>
                    </a:lnTo>
                    <a:lnTo>
                      <a:pt x="443" y="1162"/>
                    </a:lnTo>
                    <a:lnTo>
                      <a:pt x="0" y="590"/>
                    </a:lnTo>
                    <a:lnTo>
                      <a:pt x="442" y="0"/>
                    </a:lnTo>
                    <a:lnTo>
                      <a:pt x="442" y="266"/>
                    </a:lnTo>
                    <a:lnTo>
                      <a:pt x="466" y="267"/>
                    </a:lnTo>
                    <a:lnTo>
                      <a:pt x="500" y="268"/>
                    </a:lnTo>
                    <a:lnTo>
                      <a:pt x="536" y="271"/>
                    </a:lnTo>
                    <a:lnTo>
                      <a:pt x="571" y="275"/>
                    </a:lnTo>
                    <a:lnTo>
                      <a:pt x="600" y="2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Freeform 15"/>
              <p:cNvSpPr/>
              <p:nvPr/>
            </p:nvSpPr>
            <p:spPr>
              <a:xfrm>
                <a:off x="3161880" y="4375800"/>
                <a:ext cx="3311640" cy="1864440"/>
              </a:xfrm>
              <a:custGeom>
                <a:avLst/>
                <a:gdLst>
                  <a:gd name="textAreaLeft" fmla="*/ 0 w 3311640"/>
                  <a:gd name="textAreaRight" fmla="*/ 3312000 w 3311640"/>
                  <a:gd name="textAreaTop" fmla="*/ 0 h 1864440"/>
                  <a:gd name="textAreaBottom" fmla="*/ 1864800 h 1864440"/>
                </a:gdLst>
                <a:ahLst/>
                <a:rect l="textAreaLeft" t="textAreaTop" r="textAreaRight" b="textAreaBottom"/>
                <a:pathLst>
                  <a:path w="2088" h="1176">
                    <a:moveTo>
                      <a:pt x="1049" y="1162"/>
                    </a:moveTo>
                    <a:lnTo>
                      <a:pt x="1071" y="1158"/>
                    </a:lnTo>
                    <a:lnTo>
                      <a:pt x="1100" y="1153"/>
                    </a:lnTo>
                    <a:lnTo>
                      <a:pt x="1128" y="1146"/>
                    </a:lnTo>
                    <a:lnTo>
                      <a:pt x="1149" y="1141"/>
                    </a:lnTo>
                    <a:lnTo>
                      <a:pt x="1173" y="1135"/>
                    </a:lnTo>
                    <a:lnTo>
                      <a:pt x="1197" y="1127"/>
                    </a:lnTo>
                    <a:lnTo>
                      <a:pt x="1221" y="1121"/>
                    </a:lnTo>
                    <a:lnTo>
                      <a:pt x="1242" y="1113"/>
                    </a:lnTo>
                    <a:lnTo>
                      <a:pt x="1266" y="1103"/>
                    </a:lnTo>
                    <a:lnTo>
                      <a:pt x="1296" y="1091"/>
                    </a:lnTo>
                    <a:lnTo>
                      <a:pt x="1321" y="1080"/>
                    </a:lnTo>
                    <a:lnTo>
                      <a:pt x="1345" y="1068"/>
                    </a:lnTo>
                    <a:lnTo>
                      <a:pt x="1373" y="1055"/>
                    </a:lnTo>
                    <a:lnTo>
                      <a:pt x="1399" y="1041"/>
                    </a:lnTo>
                    <a:lnTo>
                      <a:pt x="1423" y="1029"/>
                    </a:lnTo>
                    <a:lnTo>
                      <a:pt x="1444" y="1013"/>
                    </a:lnTo>
                    <a:lnTo>
                      <a:pt x="1465" y="1000"/>
                    </a:lnTo>
                    <a:lnTo>
                      <a:pt x="1485" y="985"/>
                    </a:lnTo>
                    <a:lnTo>
                      <a:pt x="1508" y="971"/>
                    </a:lnTo>
                    <a:lnTo>
                      <a:pt x="1533" y="953"/>
                    </a:lnTo>
                    <a:lnTo>
                      <a:pt x="1556" y="935"/>
                    </a:lnTo>
                    <a:lnTo>
                      <a:pt x="1577" y="917"/>
                    </a:lnTo>
                    <a:lnTo>
                      <a:pt x="1596" y="902"/>
                    </a:lnTo>
                    <a:lnTo>
                      <a:pt x="1630" y="874"/>
                    </a:lnTo>
                    <a:lnTo>
                      <a:pt x="1660" y="845"/>
                    </a:lnTo>
                    <a:lnTo>
                      <a:pt x="1690" y="813"/>
                    </a:lnTo>
                    <a:lnTo>
                      <a:pt x="1721" y="776"/>
                    </a:lnTo>
                    <a:lnTo>
                      <a:pt x="1742" y="749"/>
                    </a:lnTo>
                    <a:lnTo>
                      <a:pt x="1766" y="719"/>
                    </a:lnTo>
                    <a:lnTo>
                      <a:pt x="1793" y="685"/>
                    </a:lnTo>
                    <a:lnTo>
                      <a:pt x="1815" y="652"/>
                    </a:lnTo>
                    <a:lnTo>
                      <a:pt x="1837" y="616"/>
                    </a:lnTo>
                    <a:lnTo>
                      <a:pt x="1863" y="575"/>
                    </a:lnTo>
                    <a:lnTo>
                      <a:pt x="2088" y="716"/>
                    </a:lnTo>
                    <a:lnTo>
                      <a:pt x="1868" y="0"/>
                    </a:lnTo>
                    <a:lnTo>
                      <a:pt x="1154" y="136"/>
                    </a:lnTo>
                    <a:lnTo>
                      <a:pt x="1394" y="282"/>
                    </a:lnTo>
                    <a:lnTo>
                      <a:pt x="1374" y="313"/>
                    </a:lnTo>
                    <a:lnTo>
                      <a:pt x="1352" y="339"/>
                    </a:lnTo>
                    <a:lnTo>
                      <a:pt x="1331" y="366"/>
                    </a:lnTo>
                    <a:lnTo>
                      <a:pt x="1309" y="392"/>
                    </a:lnTo>
                    <a:lnTo>
                      <a:pt x="1291" y="411"/>
                    </a:lnTo>
                    <a:lnTo>
                      <a:pt x="1272" y="433"/>
                    </a:lnTo>
                    <a:lnTo>
                      <a:pt x="1251" y="451"/>
                    </a:lnTo>
                    <a:lnTo>
                      <a:pt x="1227" y="470"/>
                    </a:lnTo>
                    <a:lnTo>
                      <a:pt x="1198" y="491"/>
                    </a:lnTo>
                    <a:lnTo>
                      <a:pt x="1174" y="507"/>
                    </a:lnTo>
                    <a:lnTo>
                      <a:pt x="1154" y="520"/>
                    </a:lnTo>
                    <a:lnTo>
                      <a:pt x="1124" y="538"/>
                    </a:lnTo>
                    <a:lnTo>
                      <a:pt x="1097" y="550"/>
                    </a:lnTo>
                    <a:lnTo>
                      <a:pt x="1075" y="557"/>
                    </a:lnTo>
                    <a:lnTo>
                      <a:pt x="1051" y="566"/>
                    </a:lnTo>
                    <a:lnTo>
                      <a:pt x="1016" y="576"/>
                    </a:lnTo>
                    <a:lnTo>
                      <a:pt x="981" y="582"/>
                    </a:lnTo>
                    <a:lnTo>
                      <a:pt x="947" y="585"/>
                    </a:lnTo>
                    <a:lnTo>
                      <a:pt x="895" y="588"/>
                    </a:lnTo>
                    <a:lnTo>
                      <a:pt x="828" y="589"/>
                    </a:lnTo>
                    <a:lnTo>
                      <a:pt x="777" y="582"/>
                    </a:lnTo>
                    <a:lnTo>
                      <a:pt x="730" y="570"/>
                    </a:lnTo>
                    <a:lnTo>
                      <a:pt x="676" y="553"/>
                    </a:lnTo>
                    <a:lnTo>
                      <a:pt x="628" y="532"/>
                    </a:lnTo>
                    <a:lnTo>
                      <a:pt x="580" y="506"/>
                    </a:lnTo>
                    <a:lnTo>
                      <a:pt x="537" y="477"/>
                    </a:lnTo>
                    <a:lnTo>
                      <a:pt x="495" y="437"/>
                    </a:lnTo>
                    <a:lnTo>
                      <a:pt x="0" y="743"/>
                    </a:lnTo>
                    <a:lnTo>
                      <a:pt x="20" y="769"/>
                    </a:lnTo>
                    <a:lnTo>
                      <a:pt x="49" y="798"/>
                    </a:lnTo>
                    <a:lnTo>
                      <a:pt x="73" y="824"/>
                    </a:lnTo>
                    <a:lnTo>
                      <a:pt x="97" y="848"/>
                    </a:lnTo>
                    <a:lnTo>
                      <a:pt x="121" y="872"/>
                    </a:lnTo>
                    <a:lnTo>
                      <a:pt x="150" y="898"/>
                    </a:lnTo>
                    <a:lnTo>
                      <a:pt x="176" y="920"/>
                    </a:lnTo>
                    <a:lnTo>
                      <a:pt x="202" y="940"/>
                    </a:lnTo>
                    <a:lnTo>
                      <a:pt x="232" y="961"/>
                    </a:lnTo>
                    <a:lnTo>
                      <a:pt x="261" y="982"/>
                    </a:lnTo>
                    <a:lnTo>
                      <a:pt x="291" y="1003"/>
                    </a:lnTo>
                    <a:lnTo>
                      <a:pt x="318" y="1020"/>
                    </a:lnTo>
                    <a:lnTo>
                      <a:pt x="346" y="1036"/>
                    </a:lnTo>
                    <a:lnTo>
                      <a:pt x="372" y="1050"/>
                    </a:lnTo>
                    <a:lnTo>
                      <a:pt x="408" y="1068"/>
                    </a:lnTo>
                    <a:lnTo>
                      <a:pt x="442" y="1084"/>
                    </a:lnTo>
                    <a:lnTo>
                      <a:pt x="480" y="1099"/>
                    </a:lnTo>
                    <a:lnTo>
                      <a:pt x="509" y="1111"/>
                    </a:lnTo>
                    <a:lnTo>
                      <a:pt x="536" y="1122"/>
                    </a:lnTo>
                    <a:lnTo>
                      <a:pt x="568" y="1132"/>
                    </a:lnTo>
                    <a:lnTo>
                      <a:pt x="600" y="1141"/>
                    </a:lnTo>
                    <a:lnTo>
                      <a:pt x="631" y="1149"/>
                    </a:lnTo>
                    <a:lnTo>
                      <a:pt x="667" y="1157"/>
                    </a:lnTo>
                    <a:lnTo>
                      <a:pt x="702" y="1163"/>
                    </a:lnTo>
                    <a:lnTo>
                      <a:pt x="740" y="1168"/>
                    </a:lnTo>
                    <a:lnTo>
                      <a:pt x="778" y="1172"/>
                    </a:lnTo>
                    <a:lnTo>
                      <a:pt x="807" y="1173"/>
                    </a:lnTo>
                    <a:lnTo>
                      <a:pt x="846" y="1176"/>
                    </a:lnTo>
                    <a:lnTo>
                      <a:pt x="886" y="1176"/>
                    </a:lnTo>
                    <a:lnTo>
                      <a:pt x="917" y="1175"/>
                    </a:lnTo>
                    <a:lnTo>
                      <a:pt x="950" y="1173"/>
                    </a:lnTo>
                    <a:lnTo>
                      <a:pt x="987" y="1171"/>
                    </a:lnTo>
                    <a:lnTo>
                      <a:pt x="1021" y="1166"/>
                    </a:lnTo>
                    <a:lnTo>
                      <a:pt x="1049" y="1162"/>
                    </a:lnTo>
                    <a:close/>
                  </a:path>
                </a:pathLst>
              </a:custGeom>
              <a:solidFill>
                <a:srgbClr val="9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Freeform 16"/>
              <p:cNvSpPr/>
              <p:nvPr/>
            </p:nvSpPr>
            <p:spPr>
              <a:xfrm>
                <a:off x="2590920" y="2356920"/>
                <a:ext cx="1679760" cy="3324960"/>
              </a:xfrm>
              <a:custGeom>
                <a:avLst/>
                <a:gdLst>
                  <a:gd name="textAreaLeft" fmla="*/ 0 w 1679760"/>
                  <a:gd name="textAreaRight" fmla="*/ 1680120 w 1679760"/>
                  <a:gd name="textAreaTop" fmla="*/ 0 h 3324960"/>
                  <a:gd name="textAreaBottom" fmla="*/ 3325320 h 3324960"/>
                </a:gdLst>
                <a:ahLst/>
                <a:rect l="textAreaLeft" t="textAreaTop" r="textAreaRight" b="textAreaBottom"/>
                <a:pathLst>
                  <a:path w="1059" h="2097">
                    <a:moveTo>
                      <a:pt x="1059" y="0"/>
                    </a:moveTo>
                    <a:lnTo>
                      <a:pt x="1036" y="4"/>
                    </a:lnTo>
                    <a:lnTo>
                      <a:pt x="1013" y="7"/>
                    </a:lnTo>
                    <a:lnTo>
                      <a:pt x="982" y="15"/>
                    </a:lnTo>
                    <a:lnTo>
                      <a:pt x="960" y="20"/>
                    </a:lnTo>
                    <a:lnTo>
                      <a:pt x="936" y="28"/>
                    </a:lnTo>
                    <a:lnTo>
                      <a:pt x="913" y="36"/>
                    </a:lnTo>
                    <a:lnTo>
                      <a:pt x="889" y="42"/>
                    </a:lnTo>
                    <a:lnTo>
                      <a:pt x="866" y="50"/>
                    </a:lnTo>
                    <a:lnTo>
                      <a:pt x="842" y="60"/>
                    </a:lnTo>
                    <a:lnTo>
                      <a:pt x="814" y="72"/>
                    </a:lnTo>
                    <a:lnTo>
                      <a:pt x="790" y="83"/>
                    </a:lnTo>
                    <a:lnTo>
                      <a:pt x="764" y="95"/>
                    </a:lnTo>
                    <a:lnTo>
                      <a:pt x="738" y="107"/>
                    </a:lnTo>
                    <a:lnTo>
                      <a:pt x="712" y="121"/>
                    </a:lnTo>
                    <a:lnTo>
                      <a:pt x="688" y="134"/>
                    </a:lnTo>
                    <a:lnTo>
                      <a:pt x="665" y="150"/>
                    </a:lnTo>
                    <a:lnTo>
                      <a:pt x="645" y="162"/>
                    </a:lnTo>
                    <a:lnTo>
                      <a:pt x="624" y="178"/>
                    </a:lnTo>
                    <a:lnTo>
                      <a:pt x="602" y="192"/>
                    </a:lnTo>
                    <a:lnTo>
                      <a:pt x="577" y="210"/>
                    </a:lnTo>
                    <a:lnTo>
                      <a:pt x="554" y="229"/>
                    </a:lnTo>
                    <a:lnTo>
                      <a:pt x="532" y="247"/>
                    </a:lnTo>
                    <a:lnTo>
                      <a:pt x="512" y="262"/>
                    </a:lnTo>
                    <a:lnTo>
                      <a:pt x="478" y="292"/>
                    </a:lnTo>
                    <a:lnTo>
                      <a:pt x="445" y="326"/>
                    </a:lnTo>
                    <a:lnTo>
                      <a:pt x="419" y="352"/>
                    </a:lnTo>
                    <a:lnTo>
                      <a:pt x="388" y="389"/>
                    </a:lnTo>
                    <a:lnTo>
                      <a:pt x="366" y="416"/>
                    </a:lnTo>
                    <a:lnTo>
                      <a:pt x="342" y="447"/>
                    </a:lnTo>
                    <a:lnTo>
                      <a:pt x="316" y="481"/>
                    </a:lnTo>
                    <a:lnTo>
                      <a:pt x="294" y="513"/>
                    </a:lnTo>
                    <a:lnTo>
                      <a:pt x="273" y="551"/>
                    </a:lnTo>
                    <a:lnTo>
                      <a:pt x="251" y="586"/>
                    </a:lnTo>
                    <a:lnTo>
                      <a:pt x="230" y="625"/>
                    </a:lnTo>
                    <a:lnTo>
                      <a:pt x="212" y="658"/>
                    </a:lnTo>
                    <a:lnTo>
                      <a:pt x="195" y="699"/>
                    </a:lnTo>
                    <a:lnTo>
                      <a:pt x="178" y="739"/>
                    </a:lnTo>
                    <a:lnTo>
                      <a:pt x="164" y="780"/>
                    </a:lnTo>
                    <a:lnTo>
                      <a:pt x="149" y="825"/>
                    </a:lnTo>
                    <a:lnTo>
                      <a:pt x="131" y="880"/>
                    </a:lnTo>
                    <a:lnTo>
                      <a:pt x="119" y="931"/>
                    </a:lnTo>
                    <a:lnTo>
                      <a:pt x="108" y="984"/>
                    </a:lnTo>
                    <a:lnTo>
                      <a:pt x="102" y="1035"/>
                    </a:lnTo>
                    <a:lnTo>
                      <a:pt x="93" y="1095"/>
                    </a:lnTo>
                    <a:lnTo>
                      <a:pt x="87" y="1169"/>
                    </a:lnTo>
                    <a:lnTo>
                      <a:pt x="86" y="1228"/>
                    </a:lnTo>
                    <a:lnTo>
                      <a:pt x="87" y="1286"/>
                    </a:lnTo>
                    <a:lnTo>
                      <a:pt x="92" y="1341"/>
                    </a:lnTo>
                    <a:lnTo>
                      <a:pt x="98" y="1392"/>
                    </a:lnTo>
                    <a:lnTo>
                      <a:pt x="104" y="1446"/>
                    </a:lnTo>
                    <a:lnTo>
                      <a:pt x="115" y="1501"/>
                    </a:lnTo>
                    <a:lnTo>
                      <a:pt x="129" y="1560"/>
                    </a:lnTo>
                    <a:lnTo>
                      <a:pt x="147" y="1620"/>
                    </a:lnTo>
                    <a:lnTo>
                      <a:pt x="165" y="1676"/>
                    </a:lnTo>
                    <a:lnTo>
                      <a:pt x="185" y="1732"/>
                    </a:lnTo>
                    <a:lnTo>
                      <a:pt x="209" y="1785"/>
                    </a:lnTo>
                    <a:lnTo>
                      <a:pt x="238" y="1837"/>
                    </a:lnTo>
                    <a:lnTo>
                      <a:pt x="0" y="1981"/>
                    </a:lnTo>
                    <a:lnTo>
                      <a:pt x="726" y="2097"/>
                    </a:lnTo>
                    <a:lnTo>
                      <a:pt x="993" y="1382"/>
                    </a:lnTo>
                    <a:lnTo>
                      <a:pt x="714" y="1542"/>
                    </a:lnTo>
                    <a:lnTo>
                      <a:pt x="687" y="1496"/>
                    </a:lnTo>
                    <a:lnTo>
                      <a:pt x="670" y="1455"/>
                    </a:lnTo>
                    <a:lnTo>
                      <a:pt x="654" y="1413"/>
                    </a:lnTo>
                    <a:lnTo>
                      <a:pt x="644" y="1370"/>
                    </a:lnTo>
                    <a:lnTo>
                      <a:pt x="636" y="1329"/>
                    </a:lnTo>
                    <a:lnTo>
                      <a:pt x="634" y="1290"/>
                    </a:lnTo>
                    <a:lnTo>
                      <a:pt x="630" y="1250"/>
                    </a:lnTo>
                    <a:lnTo>
                      <a:pt x="630" y="1210"/>
                    </a:lnTo>
                    <a:lnTo>
                      <a:pt x="633" y="1163"/>
                    </a:lnTo>
                    <a:lnTo>
                      <a:pt x="638" y="1117"/>
                    </a:lnTo>
                    <a:lnTo>
                      <a:pt x="647" y="1066"/>
                    </a:lnTo>
                    <a:lnTo>
                      <a:pt x="658" y="1025"/>
                    </a:lnTo>
                    <a:lnTo>
                      <a:pt x="675" y="978"/>
                    </a:lnTo>
                    <a:lnTo>
                      <a:pt x="689" y="939"/>
                    </a:lnTo>
                    <a:lnTo>
                      <a:pt x="709" y="900"/>
                    </a:lnTo>
                    <a:lnTo>
                      <a:pt x="726" y="871"/>
                    </a:lnTo>
                    <a:lnTo>
                      <a:pt x="743" y="846"/>
                    </a:lnTo>
                    <a:lnTo>
                      <a:pt x="760" y="822"/>
                    </a:lnTo>
                    <a:lnTo>
                      <a:pt x="779" y="798"/>
                    </a:lnTo>
                    <a:lnTo>
                      <a:pt x="799" y="772"/>
                    </a:lnTo>
                    <a:lnTo>
                      <a:pt x="817" y="754"/>
                    </a:lnTo>
                    <a:lnTo>
                      <a:pt x="837" y="731"/>
                    </a:lnTo>
                    <a:lnTo>
                      <a:pt x="858" y="713"/>
                    </a:lnTo>
                    <a:lnTo>
                      <a:pt x="882" y="694"/>
                    </a:lnTo>
                    <a:lnTo>
                      <a:pt x="910" y="674"/>
                    </a:lnTo>
                    <a:lnTo>
                      <a:pt x="934" y="657"/>
                    </a:lnTo>
                    <a:lnTo>
                      <a:pt x="955" y="644"/>
                    </a:lnTo>
                    <a:lnTo>
                      <a:pt x="985" y="626"/>
                    </a:lnTo>
                    <a:lnTo>
                      <a:pt x="1013" y="613"/>
                    </a:lnTo>
                    <a:lnTo>
                      <a:pt x="1059" y="599"/>
                    </a:lnTo>
                    <a:lnTo>
                      <a:pt x="1059" y="0"/>
                    </a:lnTo>
                    <a:close/>
                  </a:path>
                </a:pathLst>
              </a:custGeom>
              <a:solidFill>
                <a:srgbClr val="72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Freeform 17"/>
              <p:cNvSpPr/>
              <p:nvPr/>
            </p:nvSpPr>
            <p:spPr>
              <a:xfrm>
                <a:off x="3886560" y="1905120"/>
                <a:ext cx="2496600" cy="3011400"/>
              </a:xfrm>
              <a:custGeom>
                <a:avLst/>
                <a:gdLst>
                  <a:gd name="textAreaLeft" fmla="*/ 0 w 2496600"/>
                  <a:gd name="textAreaRight" fmla="*/ 2496960 w 2496600"/>
                  <a:gd name="textAreaTop" fmla="*/ 0 h 3011400"/>
                  <a:gd name="textAreaBottom" fmla="*/ 3011760 h 3011400"/>
                </a:gdLst>
                <a:ahLst/>
                <a:rect l="textAreaLeft" t="textAreaTop" r="textAreaRight" b="textAreaBottom"/>
                <a:pathLst>
                  <a:path w="1574" h="1899">
                    <a:moveTo>
                      <a:pt x="600" y="278"/>
                    </a:moveTo>
                    <a:lnTo>
                      <a:pt x="621" y="282"/>
                    </a:lnTo>
                    <a:lnTo>
                      <a:pt x="650" y="287"/>
                    </a:lnTo>
                    <a:lnTo>
                      <a:pt x="679" y="295"/>
                    </a:lnTo>
                    <a:lnTo>
                      <a:pt x="699" y="300"/>
                    </a:lnTo>
                    <a:lnTo>
                      <a:pt x="723" y="307"/>
                    </a:lnTo>
                    <a:lnTo>
                      <a:pt x="746" y="314"/>
                    </a:lnTo>
                    <a:lnTo>
                      <a:pt x="770" y="322"/>
                    </a:lnTo>
                    <a:lnTo>
                      <a:pt x="791" y="328"/>
                    </a:lnTo>
                    <a:lnTo>
                      <a:pt x="816" y="339"/>
                    </a:lnTo>
                    <a:lnTo>
                      <a:pt x="845" y="351"/>
                    </a:lnTo>
                    <a:lnTo>
                      <a:pt x="870" y="362"/>
                    </a:lnTo>
                    <a:lnTo>
                      <a:pt x="894" y="373"/>
                    </a:lnTo>
                    <a:lnTo>
                      <a:pt x="922" y="386"/>
                    </a:lnTo>
                    <a:lnTo>
                      <a:pt x="948" y="400"/>
                    </a:lnTo>
                    <a:lnTo>
                      <a:pt x="972" y="413"/>
                    </a:lnTo>
                    <a:lnTo>
                      <a:pt x="995" y="428"/>
                    </a:lnTo>
                    <a:lnTo>
                      <a:pt x="1015" y="441"/>
                    </a:lnTo>
                    <a:lnTo>
                      <a:pt x="1035" y="456"/>
                    </a:lnTo>
                    <a:lnTo>
                      <a:pt x="1058" y="471"/>
                    </a:lnTo>
                    <a:lnTo>
                      <a:pt x="1083" y="488"/>
                    </a:lnTo>
                    <a:lnTo>
                      <a:pt x="1106" y="506"/>
                    </a:lnTo>
                    <a:lnTo>
                      <a:pt x="1127" y="524"/>
                    </a:lnTo>
                    <a:lnTo>
                      <a:pt x="1148" y="541"/>
                    </a:lnTo>
                    <a:lnTo>
                      <a:pt x="1180" y="570"/>
                    </a:lnTo>
                    <a:lnTo>
                      <a:pt x="1214" y="604"/>
                    </a:lnTo>
                    <a:lnTo>
                      <a:pt x="1240" y="629"/>
                    </a:lnTo>
                    <a:lnTo>
                      <a:pt x="1271" y="667"/>
                    </a:lnTo>
                    <a:lnTo>
                      <a:pt x="1293" y="693"/>
                    </a:lnTo>
                    <a:lnTo>
                      <a:pt x="1316" y="724"/>
                    </a:lnTo>
                    <a:lnTo>
                      <a:pt x="1343" y="759"/>
                    </a:lnTo>
                    <a:lnTo>
                      <a:pt x="1364" y="792"/>
                    </a:lnTo>
                    <a:lnTo>
                      <a:pt x="1386" y="829"/>
                    </a:lnTo>
                    <a:lnTo>
                      <a:pt x="1409" y="865"/>
                    </a:lnTo>
                    <a:lnTo>
                      <a:pt x="1428" y="903"/>
                    </a:lnTo>
                    <a:lnTo>
                      <a:pt x="1447" y="937"/>
                    </a:lnTo>
                    <a:lnTo>
                      <a:pt x="1465" y="978"/>
                    </a:lnTo>
                    <a:lnTo>
                      <a:pt x="1482" y="1017"/>
                    </a:lnTo>
                    <a:lnTo>
                      <a:pt x="1496" y="1058"/>
                    </a:lnTo>
                    <a:lnTo>
                      <a:pt x="1510" y="1103"/>
                    </a:lnTo>
                    <a:lnTo>
                      <a:pt x="1528" y="1158"/>
                    </a:lnTo>
                    <a:lnTo>
                      <a:pt x="1540" y="1210"/>
                    </a:lnTo>
                    <a:lnTo>
                      <a:pt x="1552" y="1262"/>
                    </a:lnTo>
                    <a:lnTo>
                      <a:pt x="1558" y="1313"/>
                    </a:lnTo>
                    <a:lnTo>
                      <a:pt x="1567" y="1374"/>
                    </a:lnTo>
                    <a:lnTo>
                      <a:pt x="1573" y="1448"/>
                    </a:lnTo>
                    <a:lnTo>
                      <a:pt x="1574" y="1505"/>
                    </a:lnTo>
                    <a:lnTo>
                      <a:pt x="1573" y="1563"/>
                    </a:lnTo>
                    <a:lnTo>
                      <a:pt x="1568" y="1618"/>
                    </a:lnTo>
                    <a:lnTo>
                      <a:pt x="1562" y="1669"/>
                    </a:lnTo>
                    <a:lnTo>
                      <a:pt x="1556" y="1723"/>
                    </a:lnTo>
                    <a:lnTo>
                      <a:pt x="1545" y="1778"/>
                    </a:lnTo>
                    <a:lnTo>
                      <a:pt x="1531" y="1837"/>
                    </a:lnTo>
                    <a:lnTo>
                      <a:pt x="1513" y="1899"/>
                    </a:lnTo>
                    <a:lnTo>
                      <a:pt x="1410" y="1555"/>
                    </a:lnTo>
                    <a:lnTo>
                      <a:pt x="1017" y="1627"/>
                    </a:lnTo>
                    <a:lnTo>
                      <a:pt x="1026" y="1567"/>
                    </a:lnTo>
                    <a:lnTo>
                      <a:pt x="1029" y="1529"/>
                    </a:lnTo>
                    <a:lnTo>
                      <a:pt x="1029" y="1488"/>
                    </a:lnTo>
                    <a:lnTo>
                      <a:pt x="1027" y="1440"/>
                    </a:lnTo>
                    <a:lnTo>
                      <a:pt x="1021" y="1395"/>
                    </a:lnTo>
                    <a:lnTo>
                      <a:pt x="1013" y="1344"/>
                    </a:lnTo>
                    <a:lnTo>
                      <a:pt x="1002" y="1303"/>
                    </a:lnTo>
                    <a:lnTo>
                      <a:pt x="985" y="1257"/>
                    </a:lnTo>
                    <a:lnTo>
                      <a:pt x="969" y="1217"/>
                    </a:lnTo>
                    <a:lnTo>
                      <a:pt x="950" y="1179"/>
                    </a:lnTo>
                    <a:lnTo>
                      <a:pt x="934" y="1149"/>
                    </a:lnTo>
                    <a:lnTo>
                      <a:pt x="917" y="1125"/>
                    </a:lnTo>
                    <a:lnTo>
                      <a:pt x="900" y="1101"/>
                    </a:lnTo>
                    <a:lnTo>
                      <a:pt x="881" y="1076"/>
                    </a:lnTo>
                    <a:lnTo>
                      <a:pt x="859" y="1051"/>
                    </a:lnTo>
                    <a:lnTo>
                      <a:pt x="841" y="1033"/>
                    </a:lnTo>
                    <a:lnTo>
                      <a:pt x="821" y="1011"/>
                    </a:lnTo>
                    <a:lnTo>
                      <a:pt x="801" y="992"/>
                    </a:lnTo>
                    <a:lnTo>
                      <a:pt x="777" y="973"/>
                    </a:lnTo>
                    <a:lnTo>
                      <a:pt x="748" y="953"/>
                    </a:lnTo>
                    <a:lnTo>
                      <a:pt x="724" y="935"/>
                    </a:lnTo>
                    <a:lnTo>
                      <a:pt x="704" y="924"/>
                    </a:lnTo>
                    <a:lnTo>
                      <a:pt x="674" y="905"/>
                    </a:lnTo>
                    <a:lnTo>
                      <a:pt x="648" y="895"/>
                    </a:lnTo>
                    <a:lnTo>
                      <a:pt x="625" y="886"/>
                    </a:lnTo>
                    <a:lnTo>
                      <a:pt x="601" y="877"/>
                    </a:lnTo>
                    <a:lnTo>
                      <a:pt x="565" y="868"/>
                    </a:lnTo>
                    <a:lnTo>
                      <a:pt x="531" y="861"/>
                    </a:lnTo>
                    <a:lnTo>
                      <a:pt x="497" y="857"/>
                    </a:lnTo>
                    <a:lnTo>
                      <a:pt x="462" y="855"/>
                    </a:lnTo>
                    <a:lnTo>
                      <a:pt x="443" y="854"/>
                    </a:lnTo>
                    <a:lnTo>
                      <a:pt x="443" y="1162"/>
                    </a:lnTo>
                    <a:lnTo>
                      <a:pt x="0" y="590"/>
                    </a:lnTo>
                    <a:lnTo>
                      <a:pt x="442" y="0"/>
                    </a:lnTo>
                    <a:lnTo>
                      <a:pt x="442" y="266"/>
                    </a:lnTo>
                    <a:lnTo>
                      <a:pt x="466" y="267"/>
                    </a:lnTo>
                    <a:lnTo>
                      <a:pt x="500" y="268"/>
                    </a:lnTo>
                    <a:lnTo>
                      <a:pt x="536" y="271"/>
                    </a:lnTo>
                    <a:lnTo>
                      <a:pt x="571" y="275"/>
                    </a:lnTo>
                    <a:lnTo>
                      <a:pt x="600" y="278"/>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51" name="Text Box 11"/>
            <p:cNvSpPr/>
            <p:nvPr/>
          </p:nvSpPr>
          <p:spPr>
            <a:xfrm>
              <a:off x="1828800" y="37879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ble Prices</a:t>
              </a:r>
              <a:endParaRPr b="0" lang="en-US" sz="2400" spc="-1" strike="noStrike">
                <a:solidFill>
                  <a:srgbClr val="000000"/>
                </a:solidFill>
                <a:latin typeface="Times New Roman"/>
              </a:endParaRPr>
            </a:p>
          </p:txBody>
        </p:sp>
        <p:sp>
          <p:nvSpPr>
            <p:cNvPr id="152" name="Text Box 9"/>
            <p:cNvSpPr/>
            <p:nvPr/>
          </p:nvSpPr>
          <p:spPr>
            <a:xfrm>
              <a:off x="4191120" y="5376960"/>
              <a:ext cx="279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ustainable Economic  Growth</a:t>
              </a:r>
              <a:endParaRPr b="0" lang="en-US" sz="2400" spc="-1" strike="noStrike">
                <a:solidFill>
                  <a:srgbClr val="000000"/>
                </a:solidFill>
                <a:latin typeface="Times New Roman"/>
              </a:endParaRPr>
            </a:p>
          </p:txBody>
        </p:sp>
        <p:sp>
          <p:nvSpPr>
            <p:cNvPr id="153" name="Text Box 10"/>
            <p:cNvSpPr/>
            <p:nvPr/>
          </p:nvSpPr>
          <p:spPr>
            <a:xfrm>
              <a:off x="5156280" y="2749680"/>
              <a:ext cx="20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F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Employme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ey Tools of Monetary Policy</a:t>
            </a:r>
            <a:endParaRPr b="0" lang="en-US" sz="4400" spc="-1" strike="noStrike">
              <a:solidFill>
                <a:srgbClr val="420000"/>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unt Rate</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est rate charged by the Federal Reserve to banks that borrow on a short-term (usually overnight) basi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e Requirement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ount of money banks must keep on reserve at the Fed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Market Operation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ing and selling Treasury securities between the Fed and selected financial institutions in the open market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mportant tool; directed by the FO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ey Federal Reserve Interest Rates</a:t>
            </a:r>
            <a:endParaRPr b="0" lang="en-US" sz="4400" spc="-1" strike="noStrike">
              <a:solidFill>
                <a:srgbClr val="420000"/>
              </a:solidFill>
              <a:latin typeface="Times New Roman"/>
            </a:endParaRPr>
          </a:p>
        </p:txBody>
      </p:sp>
      <p:sp>
        <p:nvSpPr>
          <p:cNvPr id="157" name="PlaceHolder 2"/>
          <p:cNvSpPr>
            <a:spLocks noGrp="1"/>
          </p:cNvSpPr>
          <p:nvPr>
            <p:ph/>
          </p:nvPr>
        </p:nvSpPr>
        <p:spPr>
          <a:xfrm>
            <a:off x="457200" y="1828440"/>
            <a:ext cx="5105520" cy="472428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Funds Rate</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rket-based interest rate which banks charge each other on overnight loans of their reserve balances held at the Fed. The Fed achieves this rate through Open Market Operations.</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rget rate</a:t>
            </a:r>
            <a:endParaRPr b="0" lang="en-US" sz="20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nt Rate</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es to short-term loans made directly to commercial banks from the Federal Reserve System.</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set at 1 percentage point above the Federal Funds Rate.</a:t>
            </a:r>
            <a:endParaRPr b="0" lang="en-US" sz="2000" spc="-1" strike="noStrike">
              <a:solidFill>
                <a:srgbClr val="000000"/>
              </a:solidFill>
              <a:latin typeface="Times New Roman"/>
            </a:endParaRPr>
          </a:p>
        </p:txBody>
      </p:sp>
      <p:pic>
        <p:nvPicPr>
          <p:cNvPr id="158" name="Picture 4" descr="discwind"/>
          <p:cNvPicPr/>
          <p:nvPr/>
        </p:nvPicPr>
        <p:blipFill>
          <a:blip r:embed="rId1"/>
          <a:stretch/>
        </p:blipFill>
        <p:spPr>
          <a:xfrm>
            <a:off x="5562720" y="2590920"/>
            <a:ext cx="3124080" cy="300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netary Policy at the Grassroots</a:t>
            </a:r>
            <a:endParaRPr b="0" lang="en-US" sz="4400" spc="-1" strike="noStrike">
              <a:solidFill>
                <a:srgbClr val="420000"/>
              </a:solidFill>
              <a:latin typeface="Times New Roman"/>
            </a:endParaRPr>
          </a:p>
        </p:txBody>
      </p:sp>
      <p:sp>
        <p:nvSpPr>
          <p:cNvPr id="16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head office and branch of the Federal Reserve System has a local Board of Directors.</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9 individual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 members provide various perspectives and economic data from different regions and industri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s of directors vote on the discount rate.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s of directors influence policymaking at the national level through “real-world” inp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ffects of Low Interest Rates</a:t>
            </a:r>
            <a:endParaRPr b="0" lang="en-US" sz="4400" spc="-1" strike="noStrike">
              <a:solidFill>
                <a:srgbClr val="420000"/>
              </a:solidFill>
              <a:latin typeface="Times New Roman"/>
            </a:endParaRPr>
          </a:p>
        </p:txBody>
      </p:sp>
      <p:sp>
        <p:nvSpPr>
          <p:cNvPr id="162" name="PlaceHolder 2"/>
          <p:cNvSpPr>
            <a:spLocks noGrp="1"/>
          </p:cNvSpPr>
          <p:nvPr>
            <p:ph/>
          </p:nvPr>
        </p:nvSpPr>
        <p:spPr>
          <a:xfrm>
            <a:off x="4343400" y="1905120"/>
            <a:ext cx="4495680" cy="4495680"/>
          </a:xfrm>
          <a:prstGeom prst="rect">
            <a:avLst/>
          </a:prstGeom>
          <a:noFill/>
          <a:ln w="0">
            <a:noFill/>
          </a:ln>
        </p:spPr>
        <p:txBody>
          <a:bodyPr anchor="t">
            <a:normAutofit fontScale="98000"/>
          </a:bodyPr>
          <a:p>
            <a:pPr marL="460080" indent="-4600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low interest rates stimulate the economy because there is more money available to lend.</a:t>
            </a:r>
            <a:endParaRPr b="0" lang="en-US" sz="24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buy cars and houses.</a:t>
            </a:r>
            <a:endParaRPr b="0" lang="en-US" sz="20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es expand, buy equipment, etc.</a:t>
            </a:r>
            <a:endParaRPr b="0" lang="en-US" sz="2000" spc="-1" strike="noStrike">
              <a:solidFill>
                <a:srgbClr val="000000"/>
              </a:solidFill>
              <a:latin typeface="Times New Roman"/>
            </a:endParaRPr>
          </a:p>
          <a:p>
            <a:pPr lvl="1" marL="889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0080" indent="-4600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the Fed lower interest rates?</a:t>
            </a:r>
            <a:endParaRPr b="0" lang="en-US" sz="24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flation is in check, lower rates stimulate economic activity, thus boosting economic growth.</a:t>
            </a:r>
            <a:endParaRPr b="0" lang="en-US" sz="2000" spc="-1" strike="noStrike">
              <a:solidFill>
                <a:srgbClr val="000000"/>
              </a:solidFill>
              <a:latin typeface="Times New Roman"/>
            </a:endParaRPr>
          </a:p>
        </p:txBody>
      </p:sp>
      <p:pic>
        <p:nvPicPr>
          <p:cNvPr id="163" name="Picture 8" descr="MCj03983630000[1]"/>
          <p:cNvPicPr/>
          <p:nvPr/>
        </p:nvPicPr>
        <p:blipFill>
          <a:blip r:embed="rId1"/>
          <a:stretch/>
        </p:blipFill>
        <p:spPr>
          <a:xfrm>
            <a:off x="685800" y="2057400"/>
            <a:ext cx="353700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ffects of High Interest Rates</a:t>
            </a:r>
            <a:endParaRPr b="0" lang="en-US" sz="4400" spc="-1" strike="noStrike">
              <a:solidFill>
                <a:srgbClr val="420000"/>
              </a:solidFill>
              <a:latin typeface="Times New Roman"/>
            </a:endParaRPr>
          </a:p>
        </p:txBody>
      </p:sp>
      <p:sp>
        <p:nvSpPr>
          <p:cNvPr id="165" name="PlaceHolder 2"/>
          <p:cNvSpPr>
            <a:spLocks noGrp="1"/>
          </p:cNvSpPr>
          <p:nvPr>
            <p:ph/>
          </p:nvPr>
        </p:nvSpPr>
        <p:spPr>
          <a:xfrm>
            <a:off x="457200" y="1828440"/>
            <a:ext cx="4038480" cy="4800600"/>
          </a:xfrm>
          <a:prstGeom prst="rect">
            <a:avLst/>
          </a:prstGeom>
          <a:noFill/>
          <a:ln w="0">
            <a:noFill/>
          </a:ln>
        </p:spPr>
        <p:txBody>
          <a:bodyPr anchor="t">
            <a:normAutofit fontScale="99000"/>
          </a:bodyPr>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d raises interest rates as an effective way to fight inflation.</a:t>
            </a:r>
            <a:endParaRPr b="0" lang="en-US" sz="2400" spc="-1" strike="noStrike">
              <a:solidFill>
                <a:srgbClr val="000000"/>
              </a:solidFill>
              <a:latin typeface="Times New Roman"/>
            </a:endParaRPr>
          </a:p>
          <a:p>
            <a:pPr lvl="1" marL="898560" indent="-43164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lation</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a sustained rise in the general price level; that is, </a:t>
            </a:r>
            <a:r>
              <a:rPr b="0" lang="en-US" sz="2000" spc="-1" strike="noStrike" u="sng">
                <a:solidFill>
                  <a:srgbClr val="000000"/>
                </a:solidFill>
                <a:uFillTx/>
                <a:latin typeface="Times New Roman"/>
              </a:rPr>
              <a:t>all</a:t>
            </a:r>
            <a:r>
              <a:rPr b="0" lang="en-US" sz="2000" spc="-1" strike="noStrike">
                <a:solidFill>
                  <a:srgbClr val="000000"/>
                </a:solidFill>
                <a:latin typeface="Times New Roman"/>
              </a:rPr>
              <a:t> prices are rising together.</a:t>
            </a:r>
            <a:endParaRPr b="0" lang="en-US" sz="20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pay more to borrow money, dampening spending.</a:t>
            </a:r>
            <a:endParaRPr b="0" lang="en-US" sz="24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es have difficulty borrowing; unemployment rises.</a:t>
            </a:r>
            <a:endParaRPr b="0" lang="en-US" sz="2400" spc="-1" strike="noStrike">
              <a:solidFill>
                <a:srgbClr val="000000"/>
              </a:solidFill>
              <a:latin typeface="Times New Roman"/>
            </a:endParaRPr>
          </a:p>
        </p:txBody>
      </p:sp>
      <p:pic>
        <p:nvPicPr>
          <p:cNvPr id="166" name="Picture 4" descr="MCj03795510000[1]"/>
          <p:cNvPicPr/>
          <p:nvPr/>
        </p:nvPicPr>
        <p:blipFill>
          <a:blip r:embed="rId1"/>
          <a:stretch/>
        </p:blipFill>
        <p:spPr>
          <a:xfrm>
            <a:off x="4952880" y="1981080"/>
            <a:ext cx="384516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4" descr="pln english"/>
          <p:cNvPicPr/>
          <p:nvPr/>
        </p:nvPicPr>
        <p:blipFill>
          <a:blip r:embed="rId1"/>
          <a:stretch/>
        </p:blipFill>
        <p:spPr>
          <a:xfrm>
            <a:off x="380880" y="1981080"/>
            <a:ext cx="4572000" cy="3810240"/>
          </a:xfrm>
          <a:prstGeom prst="rect">
            <a:avLst/>
          </a:prstGeom>
          <a:ln w="0">
            <a:noFill/>
          </a:ln>
        </p:spPr>
      </p:pic>
      <p:sp>
        <p:nvSpPr>
          <p:cNvPr id="106" name="Text Box 46"/>
          <p:cNvSpPr/>
          <p:nvPr/>
        </p:nvSpPr>
        <p:spPr>
          <a:xfrm>
            <a:off x="304920" y="685800"/>
            <a:ext cx="8686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Rectangle 47"/>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at is the Fed?</a:t>
            </a:r>
            <a:endParaRPr b="0" lang="en-US" sz="4400" spc="-1" strike="noStrike">
              <a:solidFill>
                <a:srgbClr val="000000"/>
              </a:solidFill>
              <a:latin typeface="Times New Roman"/>
            </a:endParaRPr>
          </a:p>
        </p:txBody>
      </p:sp>
      <p:sp>
        <p:nvSpPr>
          <p:cNvPr id="108" name="PlaceHolder 1"/>
          <p:cNvSpPr>
            <a:spLocks noGrp="1"/>
          </p:cNvSpPr>
          <p:nvPr>
            <p:ph/>
          </p:nvPr>
        </p:nvSpPr>
        <p:spPr>
          <a:xfrm>
            <a:off x="5181480" y="2057400"/>
            <a:ext cx="3657600" cy="36576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bank of the United States</a:t>
            </a:r>
            <a:endParaRPr b="0" lang="en-US" sz="2800" spc="-1" strike="noStrike">
              <a:solidFill>
                <a:srgbClr val="000000"/>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in 1913</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s to ensure a stable economy for the n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view</a:t>
            </a:r>
            <a:endParaRPr b="0" lang="en-US" sz="4400" spc="-1" strike="noStrike">
              <a:solidFill>
                <a:srgbClr val="420000"/>
              </a:solidFill>
              <a:latin typeface="Times New Roman"/>
            </a:endParaRPr>
          </a:p>
        </p:txBody>
      </p:sp>
      <p:sp>
        <p:nvSpPr>
          <p:cNvPr id="168" name="PlaceHolder 2"/>
          <p:cNvSpPr>
            <a:spLocks noGrp="1"/>
          </p:cNvSpPr>
          <p:nvPr>
            <p:ph/>
          </p:nvPr>
        </p:nvSpPr>
        <p:spPr>
          <a:xfrm>
            <a:off x="3047760" y="1828440"/>
            <a:ext cx="5638680" cy="487692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three main roles of the Federal Reserve System?</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your Fed?</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goals of monetary policy?</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when the Fed lowers interest rates? Raises interest rate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flation? Why should it concern you?</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name of the Fed’s monetary policymaking body?</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scount rate? Federal funds rate?</a:t>
            </a:r>
            <a:endParaRPr b="0" lang="en-US" sz="2400" spc="-1" strike="noStrike">
              <a:solidFill>
                <a:srgbClr val="000000"/>
              </a:solidFill>
              <a:latin typeface="Times New Roman"/>
            </a:endParaRPr>
          </a:p>
        </p:txBody>
      </p:sp>
      <p:pic>
        <p:nvPicPr>
          <p:cNvPr id="169" name="Picture 5" descr="guide_chair"/>
          <p:cNvPicPr/>
          <p:nvPr/>
        </p:nvPicPr>
        <p:blipFill>
          <a:blip r:embed="rId1"/>
          <a:stretch/>
        </p:blipFill>
        <p:spPr>
          <a:xfrm>
            <a:off x="533520" y="2057400"/>
            <a:ext cx="2306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at else????</a:t>
            </a:r>
            <a:endParaRPr b="0" lang="en-US" sz="4400" spc="-1" strike="noStrike">
              <a:solidFill>
                <a:srgbClr val="420000"/>
              </a:solidFill>
              <a:latin typeface="Times New Roman"/>
            </a:endParaRPr>
          </a:p>
        </p:txBody>
      </p:sp>
      <p:sp>
        <p:nvSpPr>
          <p:cNvPr id="171" name=""/>
          <p:cNvSpPr txBox="1"/>
          <p:nvPr/>
        </p:nvSpPr>
        <p:spPr>
          <a:xfrm>
            <a:off x="457200" y="1828800"/>
            <a:ext cx="403848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e Requirements and the money multiplier</a:t>
            </a:r>
            <a:endParaRPr b="0" lang="en-US" sz="3200" spc="-1" strike="noStrike">
              <a:solidFill>
                <a:srgbClr val="000000"/>
              </a:solidFill>
              <a:latin typeface="Times New Roman"/>
            </a:endParaRPr>
          </a:p>
        </p:txBody>
      </p:sp>
      <p:sp>
        <p:nvSpPr>
          <p:cNvPr id="172" name="PlaceHolder 2"/>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ds costs v. yield</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 face value is a Future Value</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cost- present- value</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eld is the interes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eld and cost are inver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oles &amp; Responsibilities</a:t>
            </a:r>
            <a:endParaRPr b="0" lang="en-US" sz="4400" spc="-1" strike="noStrike">
              <a:solidFill>
                <a:srgbClr val="420000"/>
              </a:solidFill>
              <a:latin typeface="Times New Roman"/>
            </a:endParaRPr>
          </a:p>
        </p:txBody>
      </p:sp>
      <p:sp>
        <p:nvSpPr>
          <p:cNvPr id="110" name="PlaceHolder 2"/>
          <p:cNvSpPr>
            <a:spLocks noGrp="1"/>
          </p:cNvSpPr>
          <p:nvPr>
            <p:ph/>
          </p:nvPr>
        </p:nvSpPr>
        <p:spPr>
          <a:xfrm>
            <a:off x="457200" y="1828440"/>
            <a:ext cx="7772400" cy="2438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the nation’s monetary polic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vise and regulate banking institution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a nationwide payments system</a:t>
            </a:r>
            <a:endParaRPr b="0" lang="en-US" sz="2800" spc="-1" strike="noStrike">
              <a:solidFill>
                <a:srgbClr val="000000"/>
              </a:solidFill>
              <a:latin typeface="Times New Roman"/>
            </a:endParaRPr>
          </a:p>
        </p:txBody>
      </p:sp>
      <p:pic>
        <p:nvPicPr>
          <p:cNvPr id="111" name="Picture 4" descr="MCj02337780000[1]"/>
          <p:cNvPicPr/>
          <p:nvPr/>
        </p:nvPicPr>
        <p:blipFill>
          <a:blip r:embed="rId1"/>
          <a:stretch/>
        </p:blipFill>
        <p:spPr>
          <a:xfrm>
            <a:off x="2514600" y="3505320"/>
            <a:ext cx="3716280" cy="300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Reserve System Structure</a:t>
            </a:r>
            <a:endParaRPr b="0" lang="en-US" sz="4400" spc="-1" strike="noStrike">
              <a:solidFill>
                <a:srgbClr val="420000"/>
              </a:solidFill>
              <a:latin typeface="Times New Roman"/>
            </a:endParaRPr>
          </a:p>
        </p:txBody>
      </p:sp>
      <p:pic>
        <p:nvPicPr>
          <p:cNvPr id="113" name="Picture 5" descr="eccles building 2"/>
          <p:cNvPicPr/>
          <p:nvPr/>
        </p:nvPicPr>
        <p:blipFill>
          <a:blip r:embed="rId1"/>
          <a:srcRect l="22161" t="6067" r="18181" b="33281"/>
          <a:stretch/>
        </p:blipFill>
        <p:spPr>
          <a:xfrm>
            <a:off x="5086440" y="1905120"/>
            <a:ext cx="2533680" cy="1600200"/>
          </a:xfrm>
          <a:prstGeom prst="rect">
            <a:avLst/>
          </a:prstGeom>
          <a:ln w="76320">
            <a:solidFill>
              <a:srgbClr val="ffffff"/>
            </a:solidFill>
            <a:miter/>
          </a:ln>
        </p:spPr>
      </p:pic>
      <p:pic>
        <p:nvPicPr>
          <p:cNvPr id="114" name="Picture 11" descr="Fed Res copy"/>
          <p:cNvPicPr/>
          <p:nvPr/>
        </p:nvPicPr>
        <p:blipFill>
          <a:blip r:embed="rId2"/>
          <a:srcRect l="16558" t="7159" r="25476" b="6871"/>
          <a:stretch/>
        </p:blipFill>
        <p:spPr>
          <a:xfrm>
            <a:off x="5105520" y="3581280"/>
            <a:ext cx="2514600" cy="1478160"/>
          </a:xfrm>
          <a:prstGeom prst="rect">
            <a:avLst/>
          </a:prstGeom>
          <a:ln w="76320">
            <a:solidFill>
              <a:srgbClr val="ffffff"/>
            </a:solidFill>
            <a:miter/>
          </a:ln>
        </p:spPr>
      </p:pic>
      <p:sp>
        <p:nvSpPr>
          <p:cNvPr id="115" name="PlaceHolder 2"/>
          <p:cNvSpPr>
            <a:spLocks noGrp="1"/>
          </p:cNvSpPr>
          <p:nvPr>
            <p:ph/>
          </p:nvPr>
        </p:nvSpPr>
        <p:spPr>
          <a:xfrm>
            <a:off x="685800" y="1828440"/>
            <a:ext cx="403848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 of Governors</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Reserve Banks</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Open Market Committee</a:t>
            </a:r>
            <a:endParaRPr b="0" lang="en-US" sz="2800" spc="-1" strike="noStrike">
              <a:solidFill>
                <a:srgbClr val="000000"/>
              </a:solidFill>
              <a:latin typeface="Times New Roman"/>
            </a:endParaRPr>
          </a:p>
        </p:txBody>
      </p:sp>
      <p:pic>
        <p:nvPicPr>
          <p:cNvPr id="116" name="Picture 12" descr="board room 2"/>
          <p:cNvPicPr/>
          <p:nvPr/>
        </p:nvPicPr>
        <p:blipFill>
          <a:blip r:embed="rId3"/>
          <a:srcRect l="18391" t="24337" r="12387" b="4269"/>
          <a:stretch/>
        </p:blipFill>
        <p:spPr>
          <a:xfrm>
            <a:off x="5105520" y="5105520"/>
            <a:ext cx="2514600" cy="15397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500" fill="hold"/>
                                        <p:tgtEl>
                                          <p:spTgt spid="114"/>
                                        </p:tgtEl>
                                        <p:attrNameLst>
                                          <p:attrName>ppt_w</p:attrName>
                                        </p:attrNameLst>
                                      </p:cBhvr>
                                      <p:tavLst>
                                        <p:tav tm="0">
                                          <p:val>
                                            <p:fltVal val="0"/>
                                          </p:val>
                                        </p:tav>
                                        <p:tav tm="100000">
                                          <p:val>
                                            <p:strVal val="#ppt_w"/>
                                          </p:val>
                                        </p:tav>
                                      </p:tavLst>
                                    </p:anim>
                                    <p:anim calcmode="lin" valueType="num">
                                      <p:cBhvr additive="repl">
                                        <p:cTn id="13" dur="500" fill="hold"/>
                                        <p:tgtEl>
                                          <p:spTgt spid="114"/>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116"/>
                                        </p:tgtEl>
                                        <p:attrNameLst>
                                          <p:attrName>style.visibility</p:attrName>
                                        </p:attrNameLst>
                                      </p:cBhvr>
                                      <p:to>
                                        <p:strVal val="visible"/>
                                      </p:to>
                                    </p:set>
                                    <p:anim calcmode="lin" valueType="num">
                                      <p:cBhvr additive="repl">
                                        <p:cTn id="17" dur="500" fill="hold"/>
                                        <p:tgtEl>
                                          <p:spTgt spid="116"/>
                                        </p:tgtEl>
                                        <p:attrNameLst>
                                          <p:attrName>ppt_w</p:attrName>
                                        </p:attrNameLst>
                                      </p:cBhvr>
                                      <p:tavLst>
                                        <p:tav tm="0">
                                          <p:val>
                                            <p:fltVal val="0"/>
                                          </p:val>
                                        </p:tav>
                                        <p:tav tm="100000">
                                          <p:val>
                                            <p:strVal val="#ppt_w"/>
                                          </p:val>
                                        </p:tav>
                                      </p:tavLst>
                                    </p:anim>
                                    <p:anim calcmode="lin" valueType="num">
                                      <p:cBhvr additive="repl">
                                        <p:cTn id="1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oard of Governors</a:t>
            </a:r>
            <a:endParaRPr b="0" lang="en-US" sz="4400" spc="-1" strike="noStrike">
              <a:solidFill>
                <a:srgbClr val="420000"/>
              </a:solidFill>
              <a:latin typeface="Times New Roman"/>
            </a:endParaRPr>
          </a:p>
        </p:txBody>
      </p:sp>
      <p:sp>
        <p:nvSpPr>
          <p:cNvPr id="118" name="PlaceHolder 2"/>
          <p:cNvSpPr>
            <a:spLocks noGrp="1"/>
          </p:cNvSpPr>
          <p:nvPr>
            <p:ph/>
          </p:nvPr>
        </p:nvSpPr>
        <p:spPr>
          <a:xfrm>
            <a:off x="456840" y="1828800"/>
            <a:ext cx="43434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 members</a:t>
            </a:r>
            <a:endParaRPr b="0" lang="en-US" sz="2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ointed by the president</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ed by the Senate</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 staggered 14-year terms</a:t>
            </a:r>
            <a:endParaRPr b="0" lang="en-US" sz="20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ncludes:</a:t>
            </a:r>
            <a:endParaRPr b="0" lang="en-US" sz="2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ing economic developments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vising and regulating the operations of Federal Reserve Banks</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rcising responsibility in the nation’s payments system</a:t>
            </a:r>
            <a:endParaRPr b="0" lang="en-US" sz="2000" spc="-1" strike="noStrike">
              <a:solidFill>
                <a:srgbClr val="000000"/>
              </a:solidFill>
              <a:latin typeface="Times New Roman"/>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4" descr="boardroom_wh"/>
          <p:cNvPicPr/>
          <p:nvPr/>
        </p:nvPicPr>
        <p:blipFill>
          <a:blip r:embed="rId1"/>
          <a:stretch/>
        </p:blipFill>
        <p:spPr>
          <a:xfrm>
            <a:off x="5181480" y="1828800"/>
            <a:ext cx="32450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oard of Governors (cont’d)</a:t>
            </a:r>
            <a:endParaRPr b="0" lang="en-US" sz="4400" spc="-1" strike="noStrike">
              <a:solidFill>
                <a:srgbClr val="420000"/>
              </a:solidFill>
              <a:latin typeface="Times New Roman"/>
            </a:endParaRPr>
          </a:p>
        </p:txBody>
      </p:sp>
      <p:sp>
        <p:nvSpPr>
          <p:cNvPr id="121" name="PlaceHolder 2"/>
          <p:cNvSpPr>
            <a:spLocks noGrp="1"/>
          </p:cNvSpPr>
          <p:nvPr>
            <p:ph/>
          </p:nvPr>
        </p:nvSpPr>
        <p:spPr>
          <a:xfrm>
            <a:off x="457200" y="1447920"/>
            <a:ext cx="4572000" cy="4952880"/>
          </a:xfrm>
          <a:prstGeom prst="rect">
            <a:avLst/>
          </a:prstGeom>
          <a:noFill/>
          <a:ln w="0">
            <a:noFill/>
          </a:ln>
        </p:spPr>
        <p:txBody>
          <a:bodyPr anchor="t">
            <a:normAutofit/>
          </a:bodyPr>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ncludes (cont’d):</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ering consumer credit protection law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ing changes in banks’ reserve requirement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ing Fed member banks and other financial entitie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ing changes in the Fed’s discount rate</a:t>
            </a:r>
            <a:endParaRPr b="0" lang="en-US" sz="2400" spc="-1" strike="noStrike">
              <a:solidFill>
                <a:srgbClr val="000000"/>
              </a:solidFill>
              <a:latin typeface="Times New Roman"/>
            </a:endParaRPr>
          </a:p>
        </p:txBody>
      </p:sp>
      <p:pic>
        <p:nvPicPr>
          <p:cNvPr id="122" name="Picture 4" descr="boardroom_wh"/>
          <p:cNvPicPr/>
          <p:nvPr/>
        </p:nvPicPr>
        <p:blipFill>
          <a:blip r:embed="rId1"/>
          <a:stretch/>
        </p:blipFill>
        <p:spPr>
          <a:xfrm>
            <a:off x="5181480" y="1828800"/>
            <a:ext cx="32450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ere is my Fed?</a:t>
            </a:r>
            <a:endParaRPr b="0" lang="en-US" sz="4400" spc="-1" strike="noStrike">
              <a:solidFill>
                <a:srgbClr val="420000"/>
              </a:solidFill>
              <a:latin typeface="Times New Roman"/>
            </a:endParaRPr>
          </a:p>
        </p:txBody>
      </p:sp>
      <p:pic>
        <p:nvPicPr>
          <p:cNvPr id="124" name="Picture 75" descr="map"/>
          <p:cNvPicPr/>
          <p:nvPr/>
        </p:nvPicPr>
        <p:blipFill>
          <a:blip r:embed="rId1"/>
          <a:stretch/>
        </p:blipFill>
        <p:spPr>
          <a:xfrm>
            <a:off x="457200" y="1828800"/>
            <a:ext cx="8534520" cy="47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Reserve Banks</a:t>
            </a:r>
            <a:endParaRPr b="0" lang="en-US" sz="4400" spc="-1" strike="noStrike">
              <a:solidFill>
                <a:srgbClr val="420000"/>
              </a:solidFill>
              <a:latin typeface="Times New Roman"/>
            </a:endParaRPr>
          </a:p>
        </p:txBody>
      </p:sp>
      <p:sp>
        <p:nvSpPr>
          <p:cNvPr id="126" name="PlaceHolder 2"/>
          <p:cNvSpPr>
            <a:spLocks noGrp="1"/>
          </p:cNvSpPr>
          <p:nvPr>
            <p:ph/>
          </p:nvPr>
        </p:nvSpPr>
        <p:spPr>
          <a:xfrm>
            <a:off x="456840" y="1828800"/>
            <a:ext cx="5334120" cy="457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a nationwide payments syste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 the nation’s currency and coi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 and regulate member banks and bank holding compani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as banker for the U.S. Treasury</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 to monetary policymaking through Bank presidents’ participation in the FOMC</a:t>
            </a:r>
            <a:endParaRPr b="0" lang="en-US" sz="2400" spc="-1" strike="noStrike">
              <a:solidFill>
                <a:srgbClr val="000000"/>
              </a:solidFill>
              <a:latin typeface="Times New Roman"/>
            </a:endParaRPr>
          </a:p>
        </p:txBody>
      </p:sp>
      <p:pic>
        <p:nvPicPr>
          <p:cNvPr id="127" name="Picture 9" descr="MCj02337780000[1]"/>
          <p:cNvPicPr/>
          <p:nvPr/>
        </p:nvPicPr>
        <p:blipFill>
          <a:blip r:embed="rId1"/>
          <a:stretch/>
        </p:blipFill>
        <p:spPr>
          <a:xfrm>
            <a:off x="5722920" y="2284560"/>
            <a:ext cx="3040200" cy="245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pervision &amp; Regulation</a:t>
            </a:r>
            <a:endParaRPr b="0" lang="en-US" sz="4400" spc="-1" strike="noStrike">
              <a:solidFill>
                <a:srgbClr val="420000"/>
              </a:solidFill>
              <a:latin typeface="Times New Roman"/>
            </a:endParaRPr>
          </a:p>
        </p:txBody>
      </p:sp>
      <p:sp>
        <p:nvSpPr>
          <p:cNvPr id="129" name="PlaceHolder 2"/>
          <p:cNvSpPr>
            <a:spLocks noGrp="1"/>
          </p:cNvSpPr>
          <p:nvPr>
            <p:ph/>
          </p:nvPr>
        </p:nvSpPr>
        <p:spPr>
          <a:xfrm>
            <a:off x="457200" y="1828800"/>
            <a:ext cx="4952880" cy="457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 safety and soundness of banking system along with other regulatory bodies</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DIC, OCC, OTS, state banking regulators</a:t>
            </a:r>
            <a:endParaRPr b="0" lang="en-US" sz="20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compliance with laws and regulation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see international banking interest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er consumer credit protection laws</a:t>
            </a:r>
            <a:endParaRPr b="0" lang="en-US" sz="2400" spc="-1" strike="noStrike">
              <a:solidFill>
                <a:srgbClr val="000000"/>
              </a:solidFill>
              <a:latin typeface="Times New Roman"/>
            </a:endParaRPr>
          </a:p>
        </p:txBody>
      </p:sp>
      <p:pic>
        <p:nvPicPr>
          <p:cNvPr id="130" name="Picture 4" descr="supervision_pic01"/>
          <p:cNvPicPr/>
          <p:nvPr/>
        </p:nvPicPr>
        <p:blipFill>
          <a:blip r:embed="rId1"/>
          <a:stretch/>
        </p:blipFill>
        <p:spPr>
          <a:xfrm>
            <a:off x="5562720" y="2057400"/>
            <a:ext cx="327168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6:34:25Z</dcterms:created>
  <dc:creator>test</dc:creator>
  <dc:description/>
  <dc:language>en-US</dc:language>
  <cp:lastModifiedBy>Balazs, Stephen</cp:lastModifiedBy>
  <dcterms:modified xsi:type="dcterms:W3CDTF">2017-04-19T15:05:05Z</dcterms:modified>
  <cp:revision>58</cp:revision>
  <dc:subject/>
  <dc:title>Slide 1</dc:title>
</cp:coreProperties>
</file>